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15720"/>
        <c:axId val="19539492"/>
      </c:barChart>
      <c:catAx>
        <c:axId val="14415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39492"/>
        <c:crosses val="autoZero"/>
        <c:auto val="1"/>
        <c:lblAlgn val="ctr"/>
        <c:lblOffset val="100"/>
        <c:noMultiLvlLbl val="0"/>
      </c:catAx>
      <c:valAx>
        <c:axId val="19539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5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E05-0FCC-480C-8305-FB978611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CBC-90DD-402B-B06C-31519C98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94F-1CC0-464C-942E-646E0B18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9CA-AA6C-4A96-9C79-73DD2EAC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4B6-3E18-4C92-9139-5064D66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EE4-BEB7-4DED-842B-67EA974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FE7-E7B7-4298-8E57-426E9423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768-F691-48A7-B972-00CF83EC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10A-8916-43F5-BCB7-1D7B6EFC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6E6-85BD-470E-8F89-CECD05D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635-3C7C-43E3-ADB8-1D91285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C5A-D38A-43F2-8710-DE5EF55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3A46B-F74C-4F88-8B8F-58BEFD7361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