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38837"/>
        <c:axId val="58118413"/>
      </c:barChart>
      <c:catAx>
        <c:axId val="26238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18413"/>
        <c:crosses val="autoZero"/>
        <c:auto val="1"/>
        <c:lblAlgn val="ctr"/>
        <c:lblOffset val="100"/>
        <c:noMultiLvlLbl val="0"/>
      </c:catAx>
      <c:valAx>
        <c:axId val="58118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8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C67-FD3F-4BE1-9869-1285FC06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BF6-9B2F-4CB7-987A-B5FFF98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DBD-48B5-4832-8D49-CA7084C3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B88-93AE-4447-BBAC-35794D42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C84-6D09-467C-8E98-DD7AD71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F42-6137-4B66-8F1A-A872D80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2A4-B0E9-4E5F-B3D5-14B1CF0D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41D-8AFB-41E5-A840-883DC57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CD8-131E-4BDD-91FA-CE6539D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A35-2407-4B02-BBAA-AFE0FBB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902-E816-45F7-BF2A-D812CDB1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443-26DE-465B-9A3C-2035025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2DBD6-81DA-440A-9E48-9541D4B4BE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