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32875"/>
        <c:axId val="91398565"/>
      </c:barChart>
      <c:catAx>
        <c:axId val="628328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98565"/>
        <c:crosses val="autoZero"/>
        <c:auto val="1"/>
        <c:lblAlgn val="ctr"/>
        <c:lblOffset val="100"/>
        <c:noMultiLvlLbl val="0"/>
      </c:catAx>
      <c:valAx>
        <c:axId val="913985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328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F803-4BFF-4D84-96EA-13BBA13F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02C-218B-4534-85AA-831B5661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C1F-1AAF-4A83-B2E1-BEEB5B59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AB19-B4AE-4F11-997F-3C0596D1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6B7C-6763-48AD-9EB9-AD52B2A2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4454-24F7-4E67-927E-9927CF07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72DF-2C5E-4279-ABB1-D96E337F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5015-15D0-460B-ACC3-A6FD709E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9A6F-F6D5-472E-BEFB-4F4E14FB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B5A-4461-4F86-A285-B1C41B6B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125D-4C1B-4315-B04F-47179957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689D-43E0-4406-B4F0-96C7FB8F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039CA-F170-4ADD-A2A3-4C94E8A764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