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10676"/>
        <c:axId val="76098548"/>
      </c:barChart>
      <c:catAx>
        <c:axId val="38106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098548"/>
        <c:crosses val="autoZero"/>
        <c:auto val="1"/>
        <c:lblAlgn val="ctr"/>
        <c:lblOffset val="100"/>
        <c:noMultiLvlLbl val="0"/>
      </c:catAx>
      <c:valAx>
        <c:axId val="760985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06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2A6B-1554-4287-8B7B-C05424195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9D11-3EBD-490A-969A-FE3F2EE17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2CD6-717C-4803-8486-B80EA6EB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5F31-EA3C-4717-98BE-2BCE87A26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9745-DBDB-4DC5-BF1C-CC7401203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6688-8CBF-4CD6-AC87-CE583DA0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8CA-7094-4A5E-B8AE-0B7F133B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6DD0-5EDE-4C16-BC4B-F6285A93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745-CF7B-4547-ADB3-706456F2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35A4-4399-4F3F-92CB-31D0AAE3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784F-2204-4531-AA9A-8DB044CE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924C-67F8-44E0-8C73-6853AE74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16E4E-D4C0-4C1A-A616-D7B038E6EE7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