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45324"/>
        <c:axId val="71378893"/>
      </c:barChart>
      <c:catAx>
        <c:axId val="76645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8893"/>
        <c:crosses val="autoZero"/>
        <c:auto val="1"/>
        <c:lblAlgn val="ctr"/>
        <c:lblOffset val="100"/>
        <c:noMultiLvlLbl val="0"/>
      </c:catAx>
      <c:valAx>
        <c:axId val="71378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5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336-8E33-4CAA-934C-82A846E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30F-12F6-46E3-9CD9-AE869A3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83-D346-4DCD-8C01-09B9E476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722-DB1E-4D0D-9089-DB1534BE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5E4-C4A5-4011-A48C-294D960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F41-C613-4D10-BCD6-D9909DB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003-89D1-42A0-9930-8CDD58BD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C1D-75A8-497C-9BBD-960EB615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CE2-98CD-47D5-A8AF-7B685192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7DD-B02C-4373-9C47-AC06DA0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CBA-E38B-4954-A753-C7A1D1B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3D5-5777-479F-883D-F40F91A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4F02-016C-4232-8AD3-9D2CC925E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