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86759"/>
        <c:axId val="74703125"/>
      </c:barChart>
      <c:catAx>
        <c:axId val="32386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03125"/>
        <c:crosses val="autoZero"/>
        <c:auto val="1"/>
        <c:lblAlgn val="ctr"/>
        <c:lblOffset val="100"/>
        <c:noMultiLvlLbl val="0"/>
      </c:catAx>
      <c:valAx>
        <c:axId val="74703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86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6B8F-D472-4183-8A9E-13E84031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F9C-808C-40B9-9195-6DADE772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459-1B12-46B1-8C98-71BCF48E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0C6-ABEF-4881-8103-99349E47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FE1-536E-4810-9BD2-5BFF0DCC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06B-F819-4455-90E6-3B5D9638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3E59-837B-4ED7-99F2-76691A72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F6C5-7B7B-46A0-BE47-6283FF23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E363-CFC4-4CD3-B674-6F1DC636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EEC9-D756-4AE3-A121-E6AA045A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87B-FAC9-4F08-9B7B-B0E5684F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1C60-2F57-4F23-B9D7-27A3021D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562AB-504C-4A88-8F6D-87041BE7E0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