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9483"/>
        <c:axId val="95079561"/>
      </c:barChart>
      <c:catAx>
        <c:axId val="58859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79561"/>
        <c:crosses val="autoZero"/>
        <c:auto val="1"/>
        <c:lblAlgn val="ctr"/>
        <c:lblOffset val="100"/>
        <c:noMultiLvlLbl val="0"/>
      </c:catAx>
      <c:valAx>
        <c:axId val="95079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9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81A-4A68-4C7F-A8BD-CB19638F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5C8-C6F0-415E-84B0-7D5232C1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B33-500D-4F9F-8F27-65D6833E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AC2-37A3-4617-8121-130E88B9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D63-9D16-4C9D-9064-A93288C6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4F4-8B38-4625-92F9-40A90BBE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FFD-D9B9-4793-BAE6-FE3E8F8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3A5-A5BC-45AD-9E14-9C8C2F4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914-9F83-4927-B2B3-1DEDC231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D3B-EAE2-4158-A467-8DD3A6E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6F-B17D-4E85-886F-C49C7D3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910-9CCF-4F90-81E7-ADB46E0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90A6A-14DF-4DC5-A27A-03F393413F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