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00424"/>
        <c:axId val="2169322"/>
      </c:barChart>
      <c:catAx>
        <c:axId val="17000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322"/>
        <c:crosses val="autoZero"/>
        <c:auto val="1"/>
        <c:lblAlgn val="ctr"/>
        <c:lblOffset val="100"/>
        <c:noMultiLvlLbl val="0"/>
      </c:catAx>
      <c:valAx>
        <c:axId val="2169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00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CB8-A7A7-4081-8086-B2D1A66F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748-FE5C-4433-82D1-EB79CA95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F9E-0B14-48C8-9D44-F27B2E4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45F-0993-4CD7-8B52-296881E1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B80-4FB6-43EE-8917-6AD1B86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766-5104-4C46-BDF9-5660EF38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99C-5AFD-4E35-A5CB-8E1C2785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75E-BADF-4AAB-AE97-EECF766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324-5710-4D00-AD8E-DB803BED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F95-78AA-4A73-A05C-9B8F3AE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1E4-9306-4329-BF60-CE04C5C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B10-A82D-4CC9-89A3-8DDF79CB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AAFA4-F1E7-4355-B5CF-3B3FB2C53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